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5D10A-1154-4481-97C6-43FCD56DE48E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66C59-90D4-46A3-A024-B4EE82600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26D80-6075-421C-8848-D4A5BC5F826A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59DFD-E56F-4DCA-B6C8-AC233D0D0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A55A0-FF18-46B3-B542-0BFB88D10FFC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BFBC5-4895-4102-9F87-8A3A46C06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4E5AB-1F1E-40F4-8A8F-96DD45C2D28A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C3B0B-EAF0-4052-8136-D9B3B2F29F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F4D44-622B-44C3-A6FC-98E3D2D0E1CF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7325C-9A30-47C5-87CA-58927A929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55F02-171C-48F9-8CAC-A3B6C89F923E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83FB2-6C4A-4DB0-9370-25D0425BED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8CA24-C2AB-42AE-8B62-CF99B7C8BA92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E8BB6-AF0B-4E66-A327-9E8F23EDA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647FB-E027-45C0-9262-C5DA624BF491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6EC4B-65B9-4FF5-9E03-05BA4DE21B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97270-0234-40D4-8F36-59132B60BCC8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84491-7BE4-4E5D-A1B2-63D18D4BF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158AE-34F3-47AD-B454-3522CC836661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7154D-A094-4B67-986B-A44CBCDC9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4F88C-1FAF-4C4A-ACA4-72AE32CDEB4B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62E19-9DFE-4C4C-8798-53E9DF820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77650-C536-4147-8CD5-D3A9CA07CDB3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5D531-2978-4C02-AE7B-185DAF8C1D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EB255-A3E1-4C46-B6C4-2F0BD04E86E0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ACC2E-CF88-4491-A12B-9BCB15856F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E7195-5D75-43BD-AA22-B4322AAFD9EE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27B90-E97E-4A79-BE4F-0A3255CB46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94E23-64DC-4398-A63B-266C00F8D09B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56627-5AAE-4DD6-8295-057304AE1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5DC79-B2B5-484B-9B8C-9EBF131F164F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82C16-FF0D-45D2-A457-0C99BE4BE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B5C21-C92D-473D-9970-39146FE77CBD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1582F-8D11-4D03-BB7B-BC65DA86D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519B8-85C1-417A-86C7-7C4C6292A77E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E0917-407C-48F3-A45C-1058289E9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050FE-D903-49E1-A20A-0936C8F4DD2F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31DA6-C4E2-42E5-89FF-9A6BA5C7E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33086-57F4-4BDD-9B11-A893EB5974F5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23376-B1AA-4625-95B4-F43DA5DADC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1D423-2CC0-493F-B688-CC09E3201A71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3381B-D073-4EEE-9DD9-B260A141F6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700-68DC-4E02-B27F-AB97E29B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360" y="3884760"/>
            <a:ext cx="8001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83A-54F0-4C04-9DE0-CC177F98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360" y="38847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90040" y="38847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B0B-9024-4192-BB3F-442CB921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95760" y="12189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01160" y="12189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360" y="38847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95760" y="38847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01160" y="38847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D0F6-9CB4-4F40-96E6-13ECA77C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2428-0DF1-4ED8-B494-CC3EA637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3B69-3572-45A0-A935-D5B97932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6C4D-B9D8-4D0A-92D6-28159C1E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F30B-4797-4373-8CEA-B388BFF5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D714-87E4-4002-83E5-2EA6D2CF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85400" y="457200"/>
            <a:ext cx="79059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1A17-1B09-43D5-A666-E42A2C2C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38847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75D2-288B-4536-B2F2-B4E05035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604-0C58-4B7A-A87C-CB37F29D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90040" y="38847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2E89-78C3-468B-BFD3-6F5E4D56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360" y="3884760"/>
            <a:ext cx="8001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D937-3F19-4CFD-A043-83CE0910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90360" y="3884760"/>
            <a:ext cx="8001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7FEF-F895-4189-B068-909281BF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90360" y="38847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90040" y="38847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A3F2-2173-4C9B-9C1C-D7A7C753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95760" y="12189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01160" y="12189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90360" y="38847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95760" y="38847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01160" y="38847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8470-EE7B-475E-A2E4-5F555E4D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31B-0D82-4740-8DB2-3A4513FF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F57-1837-458E-9B66-388E1A03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7CC-D261-4659-B02D-064AA18C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85400" y="457200"/>
            <a:ext cx="79059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2C0-B0CA-43FE-ACD7-3242F684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38847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17B-3AC1-4F9B-B844-7F49F3F3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90040" y="38847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2BA2-D455-4C65-BE64-4F1C5CB4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360" y="3884760"/>
            <a:ext cx="8001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793-D833-444E-8445-67FF36FC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1440"/>
              <a:ext cx="1077840" cy="685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Picture 7" descr="0538699663_ppt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77840" cy="13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Text Box 8"/>
          <p:cNvSpPr/>
          <p:nvPr/>
        </p:nvSpPr>
        <p:spPr>
          <a:xfrm>
            <a:off x="3308400" y="6532560"/>
            <a:ext cx="2539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© 2003 SOUTH-WESTERN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886040" y="6532200"/>
            <a:ext cx="12189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7315200" y="6532200"/>
            <a:ext cx="9144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077320" y="6532200"/>
            <a:ext cx="9144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BE8AA580-6B70-42ED-B170-EFD92A1D29D4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Rectangle 4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5"/>
            <p:cNvSpPr/>
            <p:nvPr/>
          </p:nvSpPr>
          <p:spPr>
            <a:xfrm>
              <a:off x="0" y="1440"/>
              <a:ext cx="1965240" cy="685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Picture 6" descr="0538699663_ppt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96524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8"/>
          <p:cNvSpPr/>
          <p:nvPr/>
        </p:nvSpPr>
        <p:spPr>
          <a:xfrm>
            <a:off x="3308400" y="6532560"/>
            <a:ext cx="2539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© 2003 SOUTH-WESTERN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886040" y="6532200"/>
            <a:ext cx="12189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7315200" y="6532200"/>
            <a:ext cx="9144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077320" y="6532200"/>
            <a:ext cx="9144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8E41B14B-C9B4-4D18-9A47-37D101FB1F30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m:/ancillaries/Chapter%20PowerPoints/CH02_a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5AABFB47-7CE4-4A4B-9AA4-439513A2DB45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ritannic Bold"/>
              </a:rPr>
              <a:t>CHAPTER 1</a:t>
            </a:r>
            <a:br>
              <a:rPr sz="2400"/>
            </a:b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LEARNING ABOUT WORK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69800" y="3200400"/>
            <a:ext cx="746892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Wingdings 2" charset="2"/>
              <a:buChar char="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y Peopl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Wingdings 2" charset="2"/>
              <a:buChar char="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k Experie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01520" y="2741760"/>
            <a:ext cx="17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LES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536DD917-475E-4ECD-8EAC-EBDB70196419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ork, Occupation, Job (continued)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Job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paid position at a specific place or set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at a doctor’s office, in a mine, at a store, in a school, at home, in a nursing home, what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between Occupation &amp; Jo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ation is required first. (learned through education/trai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jobs require no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se are obtained, occupational training may follow. (being trained on the jo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change jobs a number of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a job at State Insurance to work at Merchants Bank and maybe later work at Mercy Hospital – Still having the same Occupation! (ie: Audi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change occupations and never leave their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as Salesman at Condo Resort, then later work as General Manager at Condo Res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6CDFE52E-5558-46E2-BDF7-8542301E450A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90596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Britannic Bold"/>
              </a:rPr>
              <a:t>RELATIONSHIPS AMONG </a:t>
            </a:r>
            <a:br>
              <a:rPr sz="3200"/>
            </a:br>
            <a:r>
              <a:rPr b="0" lang="en-US" sz="3200" spc="-1" strike="noStrike">
                <a:solidFill>
                  <a:srgbClr val="404176"/>
                </a:solidFill>
                <a:latin typeface="Britannic Bold"/>
              </a:rPr>
              <a:t>WORK, OCCUPATION, AND JOB</a:t>
            </a:r>
            <a:endParaRPr b="0" lang="en-US" sz="32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6360" y="5734080"/>
            <a:ext cx="1054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1.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25"/>
          <p:cNvGrpSpPr/>
          <p:nvPr/>
        </p:nvGrpSpPr>
        <p:grpSpPr>
          <a:xfrm>
            <a:off x="1373040" y="1886040"/>
            <a:ext cx="7496280" cy="4514760"/>
            <a:chOff x="1373040" y="1886040"/>
            <a:chExt cx="7496280" cy="4514760"/>
          </a:xfrm>
        </p:grpSpPr>
        <p:sp>
          <p:nvSpPr>
            <p:cNvPr id="148" name="Text Box 9"/>
            <p:cNvSpPr/>
            <p:nvPr/>
          </p:nvSpPr>
          <p:spPr>
            <a:xfrm>
              <a:off x="1373040" y="3260880"/>
              <a:ext cx="1997280" cy="731520"/>
            </a:xfrm>
            <a:prstGeom prst="rect">
              <a:avLst/>
            </a:prstGeom>
            <a:gradFill rotWithShape="0">
              <a:gsLst>
                <a:gs pos="0">
                  <a:srgbClr val="babe90"/>
                </a:gs>
                <a:gs pos="100000">
                  <a:srgbClr val="fefe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Unpaid 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6872400" y="3260880"/>
              <a:ext cx="1996920" cy="731520"/>
            </a:xfrm>
            <a:prstGeom prst="rect">
              <a:avLst/>
            </a:prstGeom>
            <a:gradFill rotWithShape="0">
              <a:gsLst>
                <a:gs pos="0">
                  <a:srgbClr val="babe90"/>
                </a:gs>
                <a:gs pos="100000">
                  <a:srgbClr val="fefe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aid 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Group 21"/>
            <p:cNvGrpSpPr/>
            <p:nvPr/>
          </p:nvGrpSpPr>
          <p:grpSpPr>
            <a:xfrm>
              <a:off x="1373040" y="5499000"/>
              <a:ext cx="7496280" cy="901800"/>
              <a:chOff x="1373040" y="5499000"/>
              <a:chExt cx="7496280" cy="901800"/>
            </a:xfrm>
          </p:grpSpPr>
          <p:sp>
            <p:nvSpPr>
              <p:cNvPr id="151" name="Text Box 12"/>
              <p:cNvSpPr/>
              <p:nvPr/>
            </p:nvSpPr>
            <p:spPr>
              <a:xfrm>
                <a:off x="1373040" y="5668920"/>
                <a:ext cx="7496280" cy="731880"/>
              </a:xfrm>
              <a:prstGeom prst="rect">
                <a:avLst/>
              </a:prstGeom>
              <a:gradFill rotWithShape="0">
                <a:gsLst>
                  <a:gs pos="0">
                    <a:srgbClr val="babe90"/>
                  </a:gs>
                  <a:gs pos="100000">
                    <a:srgbClr val="fefe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 group of similar tasks that a person performs for pay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7"/>
              <p:cNvSpPr/>
              <p:nvPr/>
            </p:nvSpPr>
            <p:spPr>
              <a:xfrm>
                <a:off x="1516320" y="5499000"/>
                <a:ext cx="182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Occup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22"/>
            <p:cNvGrpSpPr/>
            <p:nvPr/>
          </p:nvGrpSpPr>
          <p:grpSpPr>
            <a:xfrm>
              <a:off x="1373040" y="4292640"/>
              <a:ext cx="7496280" cy="903240"/>
              <a:chOff x="1373040" y="4292640"/>
              <a:chExt cx="7496280" cy="903240"/>
            </a:xfrm>
          </p:grpSpPr>
          <p:sp>
            <p:nvSpPr>
              <p:cNvPr id="154" name="Text Box 11"/>
              <p:cNvSpPr/>
              <p:nvPr/>
            </p:nvSpPr>
            <p:spPr>
              <a:xfrm>
                <a:off x="1373040" y="4464000"/>
                <a:ext cx="7496280" cy="731880"/>
              </a:xfrm>
              <a:prstGeom prst="rect">
                <a:avLst/>
              </a:prstGeom>
              <a:gradFill rotWithShape="0">
                <a:gsLst>
                  <a:gs pos="0">
                    <a:srgbClr val="babe90"/>
                  </a:gs>
                  <a:gs pos="100000">
                    <a:srgbClr val="fefe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 paid position for work done at a specific place or setting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6"/>
              <p:cNvSpPr/>
              <p:nvPr/>
            </p:nvSpPr>
            <p:spPr>
              <a:xfrm>
                <a:off x="1456560" y="4292640"/>
                <a:ext cx="63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23"/>
            <p:cNvGrpSpPr/>
            <p:nvPr/>
          </p:nvGrpSpPr>
          <p:grpSpPr>
            <a:xfrm>
              <a:off x="1373040" y="1886040"/>
              <a:ext cx="7496280" cy="903240"/>
              <a:chOff x="1373040" y="1886040"/>
              <a:chExt cx="7496280" cy="903240"/>
            </a:xfrm>
          </p:grpSpPr>
          <p:sp>
            <p:nvSpPr>
              <p:cNvPr id="157" name="Text Box 8"/>
              <p:cNvSpPr/>
              <p:nvPr/>
            </p:nvSpPr>
            <p:spPr>
              <a:xfrm>
                <a:off x="1373040" y="2057400"/>
                <a:ext cx="7496280" cy="731880"/>
              </a:xfrm>
              <a:prstGeom prst="rect">
                <a:avLst/>
              </a:prstGeom>
              <a:gradFill rotWithShape="0">
                <a:gsLst>
                  <a:gs pos="0">
                    <a:srgbClr val="babe90"/>
                  </a:gs>
                  <a:gs pos="100000">
                    <a:srgbClr val="fefe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ctivity directed towards a goal that produces something of valu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Text Box 5"/>
              <p:cNvSpPr/>
              <p:nvPr/>
            </p:nvSpPr>
            <p:spPr>
              <a:xfrm>
                <a:off x="1424160" y="1886040"/>
                <a:ext cx="93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Group 24"/>
          <p:cNvGrpSpPr/>
          <p:nvPr/>
        </p:nvGrpSpPr>
        <p:grpSpPr>
          <a:xfrm>
            <a:off x="2438280" y="2590920"/>
            <a:ext cx="5315040" cy="3276360"/>
            <a:chOff x="2438280" y="2590920"/>
            <a:chExt cx="5315040" cy="3276360"/>
          </a:xfrm>
        </p:grpSpPr>
        <p:sp>
          <p:nvSpPr>
            <p:cNvPr id="160" name="Line 16"/>
            <p:cNvSpPr/>
            <p:nvPr/>
          </p:nvSpPr>
          <p:spPr>
            <a:xfrm flipV="1">
              <a:off x="2438280" y="2590920"/>
              <a:ext cx="1371600" cy="761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 flipH="1" flipV="1">
              <a:off x="6381720" y="2590920"/>
              <a:ext cx="1371600" cy="761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8"/>
            <p:cNvSpPr/>
            <p:nvPr/>
          </p:nvSpPr>
          <p:spPr>
            <a:xfrm flipH="1">
              <a:off x="6381720" y="3809880"/>
              <a:ext cx="137160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9"/>
            <p:cNvSpPr/>
            <p:nvPr/>
          </p:nvSpPr>
          <p:spPr>
            <a:xfrm>
              <a:off x="4419720" y="50292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20"/>
            <p:cNvSpPr/>
            <p:nvPr/>
          </p:nvSpPr>
          <p:spPr>
            <a:xfrm flipV="1">
              <a:off x="5638680" y="4952520"/>
              <a:ext cx="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7DC0FAE0-DFA2-4A13-B78F-F5898A3162F1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ACTIVITY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eet:  Work, Occupation,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on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i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with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2B53BA0E-FB95-4464-BEBA-15974B8683D1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ritannic Bold"/>
              </a:rPr>
              <a:t>LESSON 1.2</a:t>
            </a:r>
            <a:br>
              <a:rPr sz="2400"/>
            </a:b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ORK EXPERIENCE</a:t>
            </a:r>
            <a:br>
              <a:rPr sz="3600"/>
            </a:b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EDUCATION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69800" y="3200400"/>
            <a:ext cx="746892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Wingdings 2" charset="2"/>
              <a:buChar char="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ree types of work experie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Wingdings 2" charset="2"/>
              <a:buChar char="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benefits of work experie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Wingdings 2" charset="2"/>
              <a:buChar char="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NS SKILL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nowing How to Learn, Self-Management, Responsibility, Self-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3360" y="274176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BA597B30-1A9B-469A-BE07-3148603B26AE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ork Experience Programs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Provide opportunities for students to explore or participate in work as an extension of the regular schoo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Cooperative (co-op) Career and Technical Education  (CTE)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hool-to-Work/Inter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learn specific occupational skills for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Skills:  skills needed to perform tasks or duties of a specific occup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s are found in 16 different career clusters, which are divided into 2 or more 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6360" y="5734080"/>
            <a:ext cx="1054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1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6311CB78-666E-47D4-A2D7-01485035C315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ork Experience Programs </a:t>
            </a:r>
            <a:r>
              <a:rPr b="0" lang="en-US" sz="2800" spc="-1" strike="noStrike">
                <a:solidFill>
                  <a:srgbClr val="404176"/>
                </a:solidFill>
                <a:latin typeface="Britannic Bold"/>
              </a:rPr>
              <a:t>(continued)</a:t>
            </a:r>
            <a:endParaRPr b="0" lang="en-US" sz="28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E continu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 Station/Work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student’s place of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 Agreem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utlines the student, supervisor, and coordinating teacher’s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 Pl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cribes the knowledge, attitudes, and skills to be developed by the stu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Work-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ability Skil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general work habits and attitudes required in all jo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ctuality, attendance, dependability,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68055A86-D0D6-4400-A90B-B3191CF84DB7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ork Experience Programs </a:t>
            </a:r>
            <a:r>
              <a:rPr b="0" lang="en-US" sz="2800" spc="-1" strike="noStrike">
                <a:solidFill>
                  <a:srgbClr val="404176"/>
                </a:solidFill>
                <a:latin typeface="Britannic Bold"/>
              </a:rPr>
              <a:t>(continued)</a:t>
            </a:r>
            <a:endParaRPr b="0" lang="en-US" sz="28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oratory Work Experience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tudents with opportunities to observe work and to try out various work tasks.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job-shadow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career guidance rather than the development of occupational or employabilit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er Guida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ssisting students in career planning and decision m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BDD8AB2A-026E-48BE-984D-3E35BCE84B45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Benefits Of Work Experience (7)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learn occupational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re skills through on-the-job training in actual work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s you for higher starting p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evelop employability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ttitudes and habits that employers ex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establish a work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 can’t get a job without experience, but you can’t get experience without a job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valuable work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earn while you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ning money gives you a sense of accompl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for future expenses: education, independent l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6360" y="5734080"/>
            <a:ext cx="1054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1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3A2DE7E9-05E4-42CA-8F32-6A45EF844FBF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Benefits Of Work Experience </a:t>
            </a:r>
            <a:r>
              <a:rPr b="0" lang="en-US" sz="2400" spc="-1" strike="noStrike">
                <a:solidFill>
                  <a:srgbClr val="404176"/>
                </a:solidFill>
                <a:latin typeface="Britannic Bold"/>
              </a:rPr>
              <a:t>(continued)</a:t>
            </a:r>
            <a:endParaRPr b="0" lang="en-US" sz="24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iscover career interests and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out the type of career you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cognize the relationship between education and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experience can provide you with something you may be missing at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main employed after grad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offered a permanent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ing someone who is already trained is beneficial for both the employer and the employe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C1310FDE-4861-4F82-8AAB-77B8B7A45F5C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Chapter 1 Assignment: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Terms, pg.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Questions 16, 17, 19, 20 (pg. 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Maiandra GD"/>
              </a:rPr>
              <a:t>Split into groups of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Maiandra GD"/>
              </a:rPr>
              <a:t>Come up with a 2-3 minute skit that shows someone doing </a:t>
            </a:r>
            <a:r>
              <a:rPr b="1" lang="en-US" sz="2800" spc="-1" strike="noStrike">
                <a:solidFill>
                  <a:srgbClr val="333399"/>
                </a:solidFill>
                <a:latin typeface="Maiandra GD"/>
              </a:rPr>
              <a:t>work</a:t>
            </a:r>
            <a:r>
              <a:rPr b="0" lang="en-US" sz="2800" spc="-1" strike="noStrike">
                <a:solidFill>
                  <a:srgbClr val="333399"/>
                </a:solidFill>
                <a:latin typeface="Maiandra GD"/>
              </a:rPr>
              <a:t> (can be paid or unpaid) but ALSO shows at least 2 </a:t>
            </a:r>
            <a:r>
              <a:rPr b="1" lang="en-US" sz="2800" spc="-1" strike="noStrike">
                <a:solidFill>
                  <a:srgbClr val="333399"/>
                </a:solidFill>
                <a:latin typeface="Maiandra GD"/>
              </a:rPr>
              <a:t>benefits </a:t>
            </a:r>
            <a:r>
              <a:rPr b="0" lang="en-US" sz="2800" spc="-1" strike="noStrike">
                <a:solidFill>
                  <a:srgbClr val="333399"/>
                </a:solidFill>
                <a:latin typeface="Maiandra GD"/>
              </a:rPr>
              <a:t>of work exper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Maiandra GD"/>
              </a:rPr>
              <a:t>You have 15 minutes to complete skit. 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Maiandra GD"/>
              </a:rPr>
              <a:t>Present sk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1447920" y="2514600"/>
            <a:ext cx="7543800" cy="335268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516A8634-3D1C-45DA-8AC2-9BB5444047B6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Preview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461600"/>
            <a:ext cx="800100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people (customers) respond to you differently than when you are not at work? 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2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F92FABCD-4BD8-450E-A7C3-E46700F5B3DA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1085760" y="6094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ORKING</a:t>
            </a:r>
            <a:br>
              <a:rPr sz="3600"/>
            </a:br>
            <a:r>
              <a:rPr b="0" lang="en-US" sz="2400" spc="-1" strike="noStrike">
                <a:solidFill>
                  <a:srgbClr val="404176"/>
                </a:solidFill>
                <a:latin typeface="Britannic Bold"/>
              </a:rPr>
              <a:t>Career Success for the 21</a:t>
            </a:r>
            <a:r>
              <a:rPr b="0" lang="en-US" sz="2400" spc="-1" strike="noStrike" baseline="30000">
                <a:solidFill>
                  <a:srgbClr val="404176"/>
                </a:solidFill>
                <a:latin typeface="Britannic Bold"/>
              </a:rPr>
              <a:t>st</a:t>
            </a:r>
            <a:r>
              <a:rPr b="0" lang="en-US" sz="2400" spc="-1" strike="noStrike">
                <a:solidFill>
                  <a:srgbClr val="404176"/>
                </a:solidFill>
                <a:latin typeface="Britannic Bold"/>
              </a:rPr>
              <a:t> Century</a:t>
            </a:r>
            <a:br>
              <a:rPr sz="2400"/>
            </a:br>
            <a:r>
              <a:rPr b="0" lang="en-US" sz="2400" spc="-1" strike="noStrike">
                <a:solidFill>
                  <a:srgbClr val="404176"/>
                </a:solidFill>
                <a:latin typeface="Britannic Bold"/>
              </a:rPr>
              <a:t>by Larry J. Bai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085760" y="2514600"/>
            <a:ext cx="724068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08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on the title below to view the presentation for the next chap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08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itannic Bold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8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4176"/>
                </a:solidFill>
                <a:uFillTx/>
                <a:latin typeface="Britannic Bold"/>
                <a:hlinkClick r:id="rId1"/>
              </a:rPr>
              <a:t>THE JOB A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40ED5BD9-13AA-4845-BE1A-9320459242DD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176"/>
                </a:solidFill>
                <a:latin typeface="Britannic Bold"/>
              </a:rPr>
              <a:t>Thoughts on Work</a:t>
            </a:r>
            <a:endParaRPr b="0" lang="en-US" sz="32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383ad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8383ad"/>
                </a:solidFill>
                <a:latin typeface="Arial"/>
              </a:rPr>
              <a:t>Work and play are words used to describe the same thing under differing conditions.” ~Mark Tw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leisure activ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ork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he same activity mean both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enjoyable/satisfying vs. dull/borin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F2E88A3D-7000-47E5-96D6-AE8DD058DA63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ritannic Bold"/>
              </a:rPr>
              <a:t>LESSON 1.1</a:t>
            </a:r>
            <a:br>
              <a:rPr sz="2400"/>
            </a:b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HY PEOPLE WORK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0160" y="3200400"/>
            <a:ext cx="6859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Wingdings 2" charset="2"/>
              <a:buChar char="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reasons why peopl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Wingdings 2" charset="2"/>
              <a:buChar char="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term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ccup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3360" y="274176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E16C47E1-C5B1-4F9C-901F-362E4AE47357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orking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’s views about work vary grea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mericans fe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s part of well-rounded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like the work they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opl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share some ideas – brainstorm @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A6188AA5-9CDB-43EE-B521-CA618F5D873A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Reasons to Work (7 reasons)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576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n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:  food, shelter,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S:  comfort, enjoyment,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the differenc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social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k environment allows peop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/Receive understanding and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6360" y="5734080"/>
            <a:ext cx="1054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1.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30231755-DBCB-4B5B-89E3-2EC721618251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Reasons to Work cont’d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 of accompl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ing of self-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mes from knowing that other people pay you for your skil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s of work tasks have you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D9D2ED70-E05D-499F-BAA2-EDA2D1DDD1A2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Reasons to Work (continued)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t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miration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ccupations do you consider to have more prestige/status?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opportunity to learn and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s to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/Physic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are active and happy in their work tend to feel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ed to our interests (what we like), and abilities and talents (what we do w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562FEF61-794E-482D-933D-BD1A8B26A45A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ork, Occupation, Job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8001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ork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ivity directed toward a purpose or goal that produces something of value to oneself and/or to society.  ** May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pai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schoolwork, homework, household work, volunteer work, what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 papers, creating lesson plans, attending meetings, t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ccup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name given to a group of similar tasks that a person performs for pay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* Not the same as career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ations are learned on the job and in educational and training progr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 keyboarding, filing, maintaining records, placing phone calls, scheduling meetings, what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, chemical engineer, accountant, photogra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6360" y="5734080"/>
            <a:ext cx="1054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1.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22:30:44Z</dcterms:created>
  <dc:creator>M. C. McLaughlin</dc:creator>
  <dc:description/>
  <dc:language>en-US</dc:language>
  <cp:lastModifiedBy>Lenessa Keehn</cp:lastModifiedBy>
  <cp:lastPrinted>2002-04-25T17:31:12Z</cp:lastPrinted>
  <dcterms:modified xsi:type="dcterms:W3CDTF">2011-09-12T06:12:57Z</dcterms:modified>
  <cp:revision>46</cp:revision>
  <dc:subject/>
  <dc:title>CHAPTER 1 LEARNING ABOUT WORK</dc:title>
</cp:coreProperties>
</file>